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or.wav" ContentType="audio/x-wav"/>
  <Override PartName="/ppt/media/image1.jpeg" ContentType="image/jpeg"/>
  <Override PartName="/ppt/media/image2.png" ContentType="image/png"/>
  <Override PartName="/ppt/media/image3.jpeg" ContentType="image/jpeg"/>
  <Override PartName="/ppt/media/timesup%5B1%5D.wav" ContentType="audio/x-wav"/>
  <Override PartName="/ppt/media/image4.jpeg" ContentType="image/jpeg"/>
  <Override PartName="/ppt/media/thinktheme%5B1%5D.wav" ContentType="audio/x-wav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applaus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02F7-6575-4A6B-BD44-D567200CE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36EE-22B4-4994-B236-90E5865A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9F94-AC52-4731-A75F-D400A1158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9EF8-487E-430D-99BF-8AF8BDA6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2573-6B29-45CA-A989-CE6B2973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EAD3-E4DF-42D7-9DA6-9D0E7161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D0BD-2CC4-413E-8120-FDB2E816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8822-BEDB-4AC6-8C51-C23A2FF0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75BA-5DA4-41F8-A4F9-0840AC67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6A39-C109-41C3-9179-F0280E90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C01D-DE82-4167-9B84-C62D36B5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CD28-55F2-4573-903D-F93A21B4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354A-48B8-4A2C-90B2-19447E7F5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or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3.xml"/><Relationship Id="rId3" Type="http://schemas.openxmlformats.org/officeDocument/2006/relationships/slide" Target="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5.xml"/><Relationship Id="rId10" Type="http://schemas.openxmlformats.org/officeDocument/2006/relationships/slide" Target="slide5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slide8.xml"/><Relationship Id="rId15" Type="http://schemas.openxmlformats.org/officeDocument/2006/relationships/slide" Target="slide13.xml"/><Relationship Id="rId16" Type="http://schemas.openxmlformats.org/officeDocument/2006/relationships/slide" Target="slide18.xml"/><Relationship Id="rId17" Type="http://schemas.openxmlformats.org/officeDocument/2006/relationships/slide" Target="slide23.xml"/><Relationship Id="rId18" Type="http://schemas.openxmlformats.org/officeDocument/2006/relationships/slide" Target="slide9.xml"/><Relationship Id="rId19" Type="http://schemas.openxmlformats.org/officeDocument/2006/relationships/slide" Target="slide9.xml"/><Relationship Id="rId20" Type="http://schemas.openxmlformats.org/officeDocument/2006/relationships/slide" Target="slide14.xml"/><Relationship Id="rId21" Type="http://schemas.openxmlformats.org/officeDocument/2006/relationships/slide" Target="slide19.xml"/><Relationship Id="rId22" Type="http://schemas.openxmlformats.org/officeDocument/2006/relationships/slide" Target="slide24.xml"/><Relationship Id="rId23" Type="http://schemas.openxmlformats.org/officeDocument/2006/relationships/slide" Target="slide14.xml"/><Relationship Id="rId24" Type="http://schemas.openxmlformats.org/officeDocument/2006/relationships/slide" Target="slide15.xml"/><Relationship Id="rId25" Type="http://schemas.openxmlformats.org/officeDocument/2006/relationships/slide" Target="slide20.xml"/><Relationship Id="rId26" Type="http://schemas.openxmlformats.org/officeDocument/2006/relationships/slide" Target="slide20.xml"/><Relationship Id="rId27" Type="http://schemas.openxmlformats.org/officeDocument/2006/relationships/slide" Target="slide25.xml"/><Relationship Id="rId28" Type="http://schemas.openxmlformats.org/officeDocument/2006/relationships/slide" Target="slide25.xml"/><Relationship Id="rId29" Type="http://schemas.openxmlformats.org/officeDocument/2006/relationships/slide" Target="slide10.xml"/><Relationship Id="rId30" Type="http://schemas.openxmlformats.org/officeDocument/2006/relationships/slide" Target="slide10.xml"/><Relationship Id="rId31" Type="http://schemas.openxmlformats.org/officeDocument/2006/relationships/slide" Target="slide11.xml"/><Relationship Id="rId32" Type="http://schemas.openxmlformats.org/officeDocument/2006/relationships/slide" Target="slide11.xml"/><Relationship Id="rId33" Type="http://schemas.openxmlformats.org/officeDocument/2006/relationships/slide" Target="slide16.xml"/><Relationship Id="rId34" Type="http://schemas.openxmlformats.org/officeDocument/2006/relationships/slide" Target="slide21.xml"/><Relationship Id="rId35" Type="http://schemas.openxmlformats.org/officeDocument/2006/relationships/slide" Target="slide26.xml"/><Relationship Id="rId36" Type="http://schemas.openxmlformats.org/officeDocument/2006/relationships/slide" Target="slide17.xml"/><Relationship Id="rId37" Type="http://schemas.openxmlformats.org/officeDocument/2006/relationships/slide" Target="slide22.xml"/><Relationship Id="rId38" Type="http://schemas.openxmlformats.org/officeDocument/2006/relationships/slide" Target="slide27.xml"/><Relationship Id="rId39" Type="http://schemas.openxmlformats.org/officeDocument/2006/relationships/slide" Target="slide12.xml"/><Relationship Id="rId40" Type="http://schemas.openxmlformats.org/officeDocument/2006/relationships/slide" Target="slide32.xml"/><Relationship Id="rId41" Type="http://schemas.openxmlformats.org/officeDocument/2006/relationships/slide" Target="slide31.xml"/><Relationship Id="rId42" Type="http://schemas.openxmlformats.org/officeDocument/2006/relationships/slide" Target="slide30.xml"/><Relationship Id="rId43" Type="http://schemas.openxmlformats.org/officeDocument/2006/relationships/slide" Target="slide30.xml"/><Relationship Id="rId44" Type="http://schemas.openxmlformats.org/officeDocument/2006/relationships/slide" Target="slide29.xml"/><Relationship Id="rId45" Type="http://schemas.openxmlformats.org/officeDocument/2006/relationships/slide" Target="slide28.xml"/><Relationship Id="rId46" Type="http://schemas.openxmlformats.org/officeDocument/2006/relationships/oleObject" Target="../embeddings/oleObject1.bin"/><Relationship Id="rId47" Type="http://schemas.openxmlformats.org/officeDocument/2006/relationships/image" Target="../media/image2.png"/><Relationship Id="rId4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audio" Target="../media/thinktheme%5B1%5D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audio" Target="../media/timesup%5B1%5D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1752480"/>
            <a:ext cx="80010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ocial Sci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bf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emester I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bf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p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51040" y="2419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3623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group tried unsuccessfully to establish a nation since the breakup of the Ottoman Emp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90400" y="57913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50021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371600" y="380880"/>
            <a:ext cx="62485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opic 2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300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45720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Ku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27360" y="3562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205740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is the strip of land on the west side of the Jordan 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23520" y="57913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50021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371600" y="380880"/>
            <a:ext cx="62485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opic 2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400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657600"/>
            <a:ext cx="701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est B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70160" y="20383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23623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branch of Muslims make up about 83% of all Musli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23520" y="56386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50021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371600" y="380880"/>
            <a:ext cx="62485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opic 2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500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39625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n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46480" y="32576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3505320"/>
            <a:ext cx="6916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18600" y="60199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00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895480" y="0"/>
            <a:ext cx="28195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opic 3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100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2590920"/>
            <a:ext cx="44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is the river that Hindus wade in to wash away their s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38280" y="495288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anges Ri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46480" y="28004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2514600"/>
            <a:ext cx="7162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9000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00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133720" y="380880"/>
            <a:ext cx="5029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Topic 3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21337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is a system of social classes in Ind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41148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st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22440" y="3562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2352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00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057400" y="380880"/>
            <a:ext cx="5029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Topic 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79" name=""/>
          <p:cNvSpPr/>
          <p:nvPr/>
        </p:nvSpPr>
        <p:spPr>
          <a:xfrm>
            <a:off x="2209680" y="213372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at nations control Kashm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00400" y="34290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a, Pakistan, Ch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51040" y="3638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7088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00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057400" y="380880"/>
            <a:ext cx="5029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Topic 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86" name=""/>
          <p:cNvSpPr/>
          <p:nvPr/>
        </p:nvSpPr>
        <p:spPr>
          <a:xfrm>
            <a:off x="1371600" y="2362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w does karma relate to samsa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0" y="3809880"/>
            <a:ext cx="5105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next life depends on the good/bad work (or karma) you’ve done in this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95480" y="3048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9492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00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057400" y="380880"/>
            <a:ext cx="50292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Topic 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41911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stu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259092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is a broadened seaward at the end of a 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9040" y="12700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422440" y="1504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09760" y="2043000"/>
            <a:ext cx="621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Three Gorges Dam is being built on this 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47200" y="60199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Topic 4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100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40384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angt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9158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498760" y="15811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17524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volcano is the best known landform in Jap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70880" y="60199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Topic 4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200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6" name=""/>
          <p:cNvSpPr/>
          <p:nvPr/>
        </p:nvSpPr>
        <p:spPr>
          <a:xfrm>
            <a:off x="2057400" y="38098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unt Fu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82840" y="6095880"/>
            <a:ext cx="4149360" cy="5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" action="ppaction://hlinksldjump"/>
              </a:rPr>
              <a:t>Final Jeopardy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1600200" cy="243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0"/>
            <a:ext cx="1600200" cy="243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W 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Mid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as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0" y="2438280"/>
            <a:ext cx="1600200" cy="609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01000" y="0"/>
            <a:ext cx="1143000" cy="243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0600" y="0"/>
            <a:ext cx="1600200" cy="243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ast 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0"/>
            <a:ext cx="1600200" cy="243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u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4" action="ppaction://hlinksldjump"/>
          </p:cNvPr>
          <p:cNvSpPr/>
          <p:nvPr/>
        </p:nvSpPr>
        <p:spPr>
          <a:xfrm>
            <a:off x="0" y="51814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5" action="ppaction://hlinksldjump"/>
              </a:rPr>
              <a:t>5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6" action="ppaction://hlinksldjump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7" action="ppaction://hlinksldjump"/>
          </p:cNvPr>
          <p:cNvSpPr/>
          <p:nvPr/>
        </p:nvSpPr>
        <p:spPr>
          <a:xfrm>
            <a:off x="0" y="44956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9" action="ppaction://hlinksldjump"/>
          </p:cNvPr>
          <p:cNvSpPr/>
          <p:nvPr/>
        </p:nvSpPr>
        <p:spPr>
          <a:xfrm>
            <a:off x="0" y="3733920"/>
            <a:ext cx="1600200" cy="761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1" action="ppaction://hlinksldjump"/>
          </p:cNvPr>
          <p:cNvSpPr/>
          <p:nvPr/>
        </p:nvSpPr>
        <p:spPr>
          <a:xfrm>
            <a:off x="0" y="304812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3" action="ppaction://hlinksldjump"/>
          </p:cNvPr>
          <p:cNvSpPr/>
          <p:nvPr/>
        </p:nvSpPr>
        <p:spPr>
          <a:xfrm>
            <a:off x="1600200" y="2438280"/>
            <a:ext cx="1600200" cy="609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5" action="ppaction://hlinksldjump"/>
          </p:cNvPr>
          <p:cNvSpPr/>
          <p:nvPr/>
        </p:nvSpPr>
        <p:spPr>
          <a:xfrm>
            <a:off x="3200400" y="2438280"/>
            <a:ext cx="1600200" cy="609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6" action="ppaction://hlinksldjump"/>
          </p:cNvPr>
          <p:cNvSpPr/>
          <p:nvPr/>
        </p:nvSpPr>
        <p:spPr>
          <a:xfrm>
            <a:off x="4800600" y="2438280"/>
            <a:ext cx="1600200" cy="609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7" action="ppaction://hlinksldjump"/>
          </p:cNvPr>
          <p:cNvSpPr/>
          <p:nvPr/>
        </p:nvSpPr>
        <p:spPr>
          <a:xfrm>
            <a:off x="6400800" y="2438280"/>
            <a:ext cx="1600200" cy="609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8" action="ppaction://hlinksldjump"/>
          </p:cNvPr>
          <p:cNvSpPr/>
          <p:nvPr/>
        </p:nvSpPr>
        <p:spPr>
          <a:xfrm>
            <a:off x="1600200" y="304812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0" action="ppaction://hlinksldjump"/>
          </p:cNvPr>
          <p:cNvSpPr/>
          <p:nvPr/>
        </p:nvSpPr>
        <p:spPr>
          <a:xfrm>
            <a:off x="3200400" y="304812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1" action="ppaction://hlinksldjump"/>
          </p:cNvPr>
          <p:cNvSpPr/>
          <p:nvPr/>
        </p:nvSpPr>
        <p:spPr>
          <a:xfrm>
            <a:off x="4800600" y="304812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2" action="ppaction://hlinksldjump"/>
          </p:cNvPr>
          <p:cNvSpPr/>
          <p:nvPr/>
        </p:nvSpPr>
        <p:spPr>
          <a:xfrm>
            <a:off x="6400800" y="304812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3" action="ppaction://hlinksldjump"/>
          </p:cNvPr>
          <p:cNvSpPr/>
          <p:nvPr/>
        </p:nvSpPr>
        <p:spPr>
          <a:xfrm>
            <a:off x="3200400" y="3733920"/>
            <a:ext cx="1600200" cy="761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4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5" action="ppaction://hlinksldjump"/>
          </p:cNvPr>
          <p:cNvSpPr/>
          <p:nvPr/>
        </p:nvSpPr>
        <p:spPr>
          <a:xfrm>
            <a:off x="4800600" y="3733920"/>
            <a:ext cx="1600200" cy="761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7" action="ppaction://hlinksldjump"/>
          </p:cNvPr>
          <p:cNvSpPr/>
          <p:nvPr/>
        </p:nvSpPr>
        <p:spPr>
          <a:xfrm>
            <a:off x="6400800" y="3733920"/>
            <a:ext cx="1600200" cy="761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8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9" action="ppaction://hlinksldjump"/>
          </p:cNvPr>
          <p:cNvSpPr/>
          <p:nvPr/>
        </p:nvSpPr>
        <p:spPr>
          <a:xfrm>
            <a:off x="1600200" y="3733920"/>
            <a:ext cx="1600200" cy="761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3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31" action="ppaction://hlinksldjump"/>
          </p:cNvPr>
          <p:cNvSpPr/>
          <p:nvPr/>
        </p:nvSpPr>
        <p:spPr>
          <a:xfrm>
            <a:off x="1600200" y="44956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32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33" action="ppaction://hlinksldjump"/>
          </p:cNvPr>
          <p:cNvSpPr/>
          <p:nvPr/>
        </p:nvSpPr>
        <p:spPr>
          <a:xfrm>
            <a:off x="3200400" y="44956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34" action="ppaction://hlinksldjump"/>
          </p:cNvPr>
          <p:cNvSpPr/>
          <p:nvPr/>
        </p:nvSpPr>
        <p:spPr>
          <a:xfrm>
            <a:off x="4800600" y="44956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35" action="ppaction://hlinksldjump"/>
          </p:cNvPr>
          <p:cNvSpPr/>
          <p:nvPr/>
        </p:nvSpPr>
        <p:spPr>
          <a:xfrm>
            <a:off x="6400800" y="44956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36" action="ppaction://hlinksldjump"/>
          </p:cNvPr>
          <p:cNvSpPr/>
          <p:nvPr/>
        </p:nvSpPr>
        <p:spPr>
          <a:xfrm>
            <a:off x="3200400" y="51814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37" action="ppaction://hlinksldjump"/>
          </p:cNvPr>
          <p:cNvSpPr/>
          <p:nvPr/>
        </p:nvSpPr>
        <p:spPr>
          <a:xfrm>
            <a:off x="4800600" y="51814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38" action="ppaction://hlinksldjump"/>
          </p:cNvPr>
          <p:cNvSpPr/>
          <p:nvPr/>
        </p:nvSpPr>
        <p:spPr>
          <a:xfrm>
            <a:off x="6400800" y="51814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9" action="ppaction://hlinksldjump"/>
          </p:cNvPr>
          <p:cNvSpPr/>
          <p:nvPr/>
        </p:nvSpPr>
        <p:spPr>
          <a:xfrm>
            <a:off x="1600200" y="51814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0" action="ppaction://hlinksldjump"/>
          </p:cNvPr>
          <p:cNvSpPr/>
          <p:nvPr/>
        </p:nvSpPr>
        <p:spPr>
          <a:xfrm>
            <a:off x="8001000" y="5181480"/>
            <a:ext cx="11430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41" action="ppaction://hlinksldjump"/>
          </p:cNvPr>
          <p:cNvSpPr/>
          <p:nvPr/>
        </p:nvSpPr>
        <p:spPr>
          <a:xfrm>
            <a:off x="8001000" y="4495680"/>
            <a:ext cx="11430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42" action="ppaction://hlinksldjump"/>
          </p:cNvPr>
          <p:cNvSpPr/>
          <p:nvPr/>
        </p:nvSpPr>
        <p:spPr>
          <a:xfrm>
            <a:off x="8001000" y="3733920"/>
            <a:ext cx="1143000" cy="761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44" action="ppaction://hlinksldjump"/>
          </p:cNvPr>
          <p:cNvSpPr/>
          <p:nvPr/>
        </p:nvSpPr>
        <p:spPr>
          <a:xfrm>
            <a:off x="8001000" y="3048120"/>
            <a:ext cx="11430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45" action="ppaction://hlinksldjump"/>
          </p:cNvPr>
          <p:cNvSpPr/>
          <p:nvPr/>
        </p:nvSpPr>
        <p:spPr>
          <a:xfrm>
            <a:off x="8001000" y="2438280"/>
            <a:ext cx="1143000" cy="609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0"/>
            <a:ext cx="1600200" cy="243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38080" y="6324480"/>
          <a:ext cx="304920" cy="30492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838080" y="63244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7952400" y="864000"/>
            <a:ext cx="1183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hys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651040" y="4324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6019920"/>
            <a:ext cx="1043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Topic 4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300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0" name=""/>
          <p:cNvSpPr/>
          <p:nvPr/>
        </p:nvSpPr>
        <p:spPr>
          <a:xfrm>
            <a:off x="1981080" y="18288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is the main reason China was safe from invaders in ancient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3200400"/>
            <a:ext cx="69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eography: mountains, desert, oc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70160" y="37908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18600" y="60958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Topic 4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400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1981080" y="17524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country does not recognize Taiwan as an independent 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32767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727360" y="41720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47200" y="57913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362320" y="304920"/>
            <a:ext cx="4228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Topic 4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500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19051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river is know for its deadly flo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36576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uang He (Yellow) Ri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09960" y="604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32280" y="14288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42280" y="57913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opic 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"/>
          <p:cNvSpPr/>
          <p:nvPr/>
        </p:nvSpPr>
        <p:spPr>
          <a:xfrm>
            <a:off x="2133720" y="190512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is a huge crack in the Earth’s surface found in Af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86200" y="388620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ift Val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75080" y="26478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9492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opic 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"/>
          <p:cNvSpPr/>
          <p:nvPr/>
        </p:nvSpPr>
        <p:spPr>
          <a:xfrm>
            <a:off x="914400" y="19810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ich religion calls for prayers, a pilgrimage, and giving to the p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657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l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75040" y="604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55960" y="34862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7088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opic 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17524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group fights for the right of return for Palestini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35053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lestinian Liberation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51040" y="34099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070880" y="57913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opic 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0" name=""/>
          <p:cNvSpPr/>
          <p:nvPr/>
        </p:nvSpPr>
        <p:spPr>
          <a:xfrm>
            <a:off x="1295280" y="198108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at are two similarities between the Nile River and the Yangtze Riv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90920" y="3505320"/>
            <a:ext cx="4038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oth caused major flooding and now have huge dams built on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75080" y="34099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4920" y="56386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opic 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19051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is the building blocks of a nation that allows it to run.  Examples are roads, sewer systems, telephone wire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05320" y="4038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965240" y="22669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4720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opic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00pt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2" name=""/>
          <p:cNvSpPr/>
          <p:nvPr/>
        </p:nvSpPr>
        <p:spPr>
          <a:xfrm>
            <a:off x="1523880" y="22096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s is a volcano with it’s top blown off and looks like an is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4038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to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117880" y="3562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4720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opic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00pt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19810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s is a depression in the 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752480" y="39625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as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opic 1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100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27115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frica is called this because it has low elevations along the coast that rise towards the center of the contin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70880" y="57913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2320" y="41911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lateau conti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575080" y="37908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70880" y="548640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opic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00pt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2" name=""/>
          <p:cNvSpPr/>
          <p:nvPr/>
        </p:nvSpPr>
        <p:spPr>
          <a:xfrm>
            <a:off x="1066680" y="19810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departure of native African professionals to Western countries is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39625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ain Drai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727360" y="32576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94920" y="548640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opic 6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00pt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7" name=""/>
          <p:cNvSpPr/>
          <p:nvPr/>
        </p:nvSpPr>
        <p:spPr>
          <a:xfrm>
            <a:off x="1295280" y="1981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s desert is the most famous in SW Asia and is also know as the Empty Quar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39625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ub al-Kh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565440" y="44006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46480" y="3105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94920" y="53341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opic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00pt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1828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en rivers flood they deposit soil on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41148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lluvial pl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5410080" y="1219320"/>
            <a:ext cx="152640" cy="1522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33520" y="19810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tate the region (Africa, SW Asia, South Asia, East Asia) each country is in.:  Iran, Pakistan, Japan, Sudan, Egypt, China, Saudi Arabia, In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65240" y="285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38480" y="6338880"/>
            <a:ext cx="10670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3300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981080" y="380880"/>
            <a:ext cx="50673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Final 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2819520" y="3048120"/>
            <a:ext cx="3603600" cy="12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ime is up!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514600" y="5638680"/>
            <a:ext cx="4257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You have 20 sec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4" name=""/>
          <p:cNvSpPr/>
          <p:nvPr/>
        </p:nvSpPr>
        <p:spPr>
          <a:xfrm>
            <a:off x="1295280" y="441972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frica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: Sudan, Egypt.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W Asia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: Iran, Saudi Arabia.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outh Asia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: Pakistan, India.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East Asia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: Japan, Ch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hinktheme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8953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81080" y="2286000"/>
            <a:ext cx="52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is the largest lake in Africa and sits between two rift valle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2352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438280" y="457200"/>
            <a:ext cx="42292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opic 1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200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472428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388620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ke Vic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65240" y="895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35000" y="2712960"/>
            <a:ext cx="527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70880" y="60199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opic 1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300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220968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t this conference, Europeans met to decide how to divide up Af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403848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rlin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55760" y="24955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2133720"/>
            <a:ext cx="521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94920" y="57913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opic 1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400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1828800"/>
            <a:ext cx="335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is where an individual would be gazing at a wildebeest through tall gr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4343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Serenge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75080" y="1962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2362320"/>
            <a:ext cx="5790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9492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opic 1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500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19810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island was the departure point for slave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43200" y="41911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oree Is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17880" y="3562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2514600"/>
            <a:ext cx="586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9492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50021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371600" y="380880"/>
            <a:ext cx="62485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opic 2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100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213372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type of desert results when moisture from soil evaporates and chemical salts rem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388620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alt fl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220968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is the name given to a nation of people without land to legally occup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70880" y="56386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50021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447920" y="304920"/>
            <a:ext cx="62481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opic 2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200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33526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ateless 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7T16:43:42Z</dcterms:created>
  <dc:creator>IPSD 204</dc:creator>
  <dc:description/>
  <dc:language>en-US</dc:language>
  <cp:lastModifiedBy>Buffalo Grove High School</cp:lastModifiedBy>
  <cp:lastPrinted>2003-09-29T17:45:32Z</cp:lastPrinted>
  <dcterms:modified xsi:type="dcterms:W3CDTF">2008-05-28T13:50:09Z</dcterms:modified>
  <cp:revision>109</cp:revision>
  <dc:subject/>
  <dc:title>No Slide Title</dc:title>
</cp:coreProperties>
</file>